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2288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6CC2-AB31-4401-A21C-3B8A18CA3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D6BE-A071-4886-9434-9BE0C415C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C536-D3E7-41FE-AB66-F08134BF2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3532-4A3A-4A17-BC0D-50819B383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34D0-8C5B-4389-958B-C0C39F4EA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929C-A87B-4DB2-B28A-C8DFBD21F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F1B1-24DE-4355-BE70-51D5DFCDB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126D-CC29-4C42-AD03-F6D538305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56E1-F6BC-4A9F-AD45-370ED8B72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363E-AAD1-4BAA-BED9-6B07AAEB6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670D-8A70-4800-B58D-F5F4D2DBC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E8E8-98EB-4810-9F88-93AAFB7AA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E65B8-CA06-416C-9830-5660DBF197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160880"/>
            <a:ext cx="685800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LDO </a:t>
            </a:r>
            <a:r>
              <a:rPr b="0" lang="en-US" sz="60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200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 Black"/>
              </a:rPr>
              <a:t>Projeto de Le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-243000" y="863136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Arial Black"/>
              </a:rPr>
              <a:t>MAIO DE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6600" y="9201240"/>
            <a:ext cx="59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ff"/>
                </a:solidFill>
                <a:latin typeface="Arial"/>
              </a:rPr>
              <a:t>Brasília – Patrimônio Cultural da Humanida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581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581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65360" y="0"/>
            <a:ext cx="166392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2T14:57:14Z</dcterms:created>
  <dc:creator>441104</dc:creator>
  <dc:description/>
  <dc:language>en-US</dc:language>
  <cp:lastModifiedBy>humberto.junior</cp:lastModifiedBy>
  <dcterms:modified xsi:type="dcterms:W3CDTF">2007-05-11T19:53:31Z</dcterms:modified>
  <cp:revision>19</cp:revision>
  <dc:subject/>
  <dc:title>Slide 1</dc:title>
</cp:coreProperties>
</file>